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hammer.wav" ContentType="audio/x-wav"/>
  <Override PartName="/ppt/media/laser.wav" ContentType="audio/x-wav"/>
  <Override PartName="/ppt/media/image12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9.jpeg" ContentType="image/jpeg"/>
  <Override PartName="/ppt/media/bomb.wav" ContentType="audio/x-wav"/>
  <Override PartName="/ppt/media/image5.wmf" ContentType="image/x-wmf"/>
  <Override PartName="/ppt/media/image10.png" ContentType="image/png"/>
  <Override PartName="/ppt/media/arrow.wav" ContentType="audio/x-wav"/>
  <Override PartName="/ppt/media/image21.jpeg" ContentType="image/jpeg"/>
  <Override PartName="/ppt/media/image23.wmf" ContentType="image/x-wmf"/>
  <Override PartName="/ppt/media/image22.wmf" ContentType="image/x-wmf"/>
  <Override PartName="/ppt/media/suction.wav" ContentType="audio/x-wav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2.wmf" ContentType="image/x-wmf"/>
  <Override PartName="/ppt/media/image20.png" ContentType="image/png"/>
  <Override PartName="/ppt/media/voltage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92B-9464-40D7-A9CE-56B5BBCA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2BB-0128-40AC-A0E6-9A613372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EF6-7330-4C49-954F-7EAC6E3D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2DD-6255-4F6A-B8B4-EFFFD488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1F3-E55D-4E93-BF6B-278A4EE9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DFD-0EF7-4DF2-B2EF-A5792B0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486-9CFF-4FFB-8838-D6629C0B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EFC-42D5-47D0-AA5C-06E4C1B0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00D-0B12-4AF9-A30D-F426F3A2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D9A-B2E6-43F7-B732-7AD78941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272-5E77-447B-8A3E-4FDA738F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76A-4FA6-42B5-9133-8F82B967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01C6-7668-4C9C-9EB6-849E326B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gbsd.com/" TargetMode="External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69400">
            <a:off x="609480" y="914040"/>
            <a:ext cx="53341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zzText"/>
              </a:rPr>
              <a:t>!!ME!!</a:t>
            </a:r>
            <a:endParaRPr b="1" i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zzText"/>
              <a:ea typeface="JazzTex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 rot="10317600">
            <a:off x="7086600" y="4724280"/>
            <a:ext cx="1781280" cy="1703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352680" y="358128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 rot="604800">
            <a:off x="6552720" y="380880"/>
            <a:ext cx="2286000" cy="1974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666880" cy="2274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781680" y="2438280"/>
            <a:ext cx="1827360" cy="1627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8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457200"/>
            <a:ext cx="6324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roadway"/>
              </a:rPr>
              <a:t>My House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roadway"/>
              <a:ea typeface="Broadway"/>
            </a:endParaRPr>
          </a:p>
        </p:txBody>
      </p:sp>
    </p:spTree>
  </p:cSld>
  <p:transition spd="slow">
    <p:blinds dir="vert"/>
    <p:sndAc>
      <p:stSnd>
        <p:snd r:embed="rId2" name="bomb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say that I have many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y know who th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57400" cy="173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9920" y="4724280"/>
            <a:ext cx="2666880" cy="181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219320" y="228600"/>
            <a:ext cx="3962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igi"/>
              </a:rPr>
              <a:t>My Friends</a:t>
            </a:r>
            <a:endParaRPr b="1" i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igi"/>
              <a:ea typeface="Gig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914400" y="525780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733920" y="4419720"/>
            <a:ext cx="1542960" cy="1936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7" name="voltage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the Cedar Grove-Belgium Rocke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072040" cy="250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3520" y="5167440"/>
            <a:ext cx="3429000" cy="1249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480" y="2895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162920" y="228600"/>
            <a:ext cx="1608120" cy="178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419720" y="4800600"/>
            <a:ext cx="1452600" cy="1806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09480" y="304920"/>
            <a:ext cx="6400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azzText"/>
              </a:rPr>
              <a:t>My School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ff9933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azzText"/>
              <a:ea typeface="JazzText"/>
            </a:endParaRPr>
          </a:p>
        </p:txBody>
      </p:sp>
    </p:spTree>
  </p:cSld>
  <p:transition spd="slow">
    <p:random/>
    <p:sndAc>
      <p:stSnd>
        <p:snd r:embed="rId6" name="hamme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ttend Cedar Grove-Belgium Middle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a 13 year old living in Cedar Gr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moved quite a bit in my lifetime: Milwaukee, Oostburg, and Cedar Grove. I moved a lot in Milwauk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arents own the A.K.A. Mobil Station on 3 West Union Aven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lkers are not welcome at my house…l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90920" y="541008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15228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819520" y="304920"/>
            <a:ext cx="3733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Old English Text MT"/>
              </a:rPr>
              <a:t>My Lif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Old English Text MT"/>
              <a:ea typeface="Old English Text M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219320" y="5410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2057400" cy="1211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7" name="suction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gbsd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thescroogereport.files.wordpress.com/2007/04/gas-prices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istral"/>
              </a:rPr>
              <a:t>Websites Used</a:t>
            </a:r>
            <a:endParaRPr b="1" i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2295360" cy="2705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213228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4" name="arrow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17:01Z</dcterms:created>
  <dc:creator>CGB</dc:creator>
  <dc:description/>
  <dc:language>en-US</dc:language>
  <cp:lastModifiedBy>CGB</cp:lastModifiedBy>
  <dcterms:modified xsi:type="dcterms:W3CDTF">2008-06-11T14:13:43Z</dcterms:modified>
  <cp:revision>14</cp:revision>
  <dc:subject/>
  <dc:title>Me</dc:title>
</cp:coreProperties>
</file>